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EFB-8994-4ACE-939A-57D7AB0C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E32A-2DFB-474F-B935-E57393F1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951-3463-4F5D-8C09-36C273A2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554-F429-466C-B647-96712A79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7369-C118-4DCE-B3F4-69272027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6923-C8BC-4500-B72D-6A4ABD63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10EE-4FCD-478A-A546-5B627802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B06E-69FE-4F64-BB00-919A8DDA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F93D-672F-417B-984F-1FAC0F20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D8AF-85A4-4065-9D6C-0E380C0F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50F6-635A-43FC-AFB1-2CBA3283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B8A-83C9-42A6-8956-0AA8184E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3338-259B-4DB1-BDC9-3ADA1037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F214-2262-49F2-B028-DA9B899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4B9E-F8C8-4E77-81F1-36194C44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4CD8-F77A-4B27-951D-8D2052D5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1167-2C7D-4841-8D10-0684CFC3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F5F53-E507-4441-8B22-3870241D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B1C4-FFF0-4479-8291-410D322C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A2E20-E148-411B-9EA7-71FF9087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41D2-CE5B-43A0-97B7-9F4EC26C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3C16-28BA-4029-8CB0-AE53FF2E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CE9-D85E-4D83-ACA3-3278A680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25B94-31DC-48FD-B54B-EEE5CF1D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E162-B1F5-469E-A05B-D6831BED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D09F-53C9-4875-BAF3-3331C6EC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3087-1321-4081-A5D1-E7BBF1FD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56C1-6DC0-41BA-85E1-8C3B278E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C04A-1305-48D4-AFF8-813B384E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B580-5002-4E06-9604-3418A894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38AB-7773-488D-8172-967ABEB0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B3CD-09D4-4114-AFE4-E97C55CC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8DAF-15ED-4A6A-81F7-99B40B5F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4C9-42AA-49AF-84F6-23C56059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AD724-BC59-4637-B0A1-4D7098CF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8A95-0DC2-4937-8504-2A3E7ED5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8F9AB-C0AF-448A-BC81-3B6AA795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43DD-5D14-4AC3-A9A5-8051A91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A0B4-A1D0-4CCC-8D6C-F7AC2827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F0C5-BD25-4E69-92AE-E89494BA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8CB63-BA5F-4CF6-A5FB-EDEBEAC7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752A-7DBA-4A76-89F4-ACA2F284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A7952-494E-4C5E-AD71-E2F48BBA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D27-57E3-48DF-8D68-30CB00C4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701-CC4B-4B23-AA72-38A96F77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0DB-EEA2-4BC4-8C8E-98DDCA63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1BC-986D-43A9-8F1A-3D0B764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571-7824-4A1E-AC34-B53F115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21F4-92E4-4ADF-BD3D-0EDCCAA6D3A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4808-B02F-4444-963E-9E1900B7F0C4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FE3A-3B33-4887-A13B-8323DEB22685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02BC-D8CF-4CCF-965F-3D6AD452DB4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Comenius Regio </a:t>
            </a:r>
            <a:br>
              <a:rPr sz="5400"/>
            </a:b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My Role and Current Practic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611280" y="4373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Gail Steven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Head of Maths</a:t>
            </a:r>
            <a:br>
              <a:rPr sz="3200"/>
            </a:b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Deer Park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9"/>
          <p:cNvSpPr/>
          <p:nvPr/>
        </p:nvSpPr>
        <p:spPr>
          <a:xfrm>
            <a:off x="6634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So what facto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11280" y="1844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toring and contac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611280" y="26114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ekly top up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611280" y="34034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for learning – review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11280" y="41958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P tu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Deer Park School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395280" y="321300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ural sett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1100 pupils on ro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11-16 school with very close links to Cirencester Colle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Main specialism - Technolog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A good school with outstanding features (OFSTE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58% 5A*-C including Maths and Englis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Maths Facult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395280" y="313992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9 teach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Very new team with recent changes to leadershi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2008/9 Focus: Satisfactory to Goo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2009/10 Focus: Establishing Goo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pils follow range of pathways to increase personalis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66% A*-C GCSE Math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Current Initiativ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95280" y="407664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Building Learning Pow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esilien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esourcefulne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eciprocit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Reflectivene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Assessing Pupil Progre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One to one tuition (Key Stage 3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5team extraction gro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Turning Hea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04617b"/>
                </a:solidFill>
                <a:latin typeface="Arial"/>
                <a:ea typeface="Arial"/>
              </a:rPr>
              <a:t>My Vision</a:t>
            </a:r>
            <a:endParaRPr b="0" lang="en-US" sz="6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324000" y="2421000"/>
            <a:ext cx="4319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ff"/>
                </a:solidFill>
                <a:latin typeface="Arial"/>
                <a:ea typeface="Arial"/>
              </a:rPr>
              <a:t>Enjoy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71640" y="4005360"/>
            <a:ext cx="431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ff"/>
                </a:solidFill>
                <a:latin typeface="Arial"/>
                <a:ea typeface="Arial"/>
              </a:rPr>
              <a:t>Achieve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4643280" y="3141720"/>
            <a:ext cx="431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ff"/>
                </a:solidFill>
                <a:latin typeface="Arial"/>
                <a:ea typeface="Arial"/>
              </a:rPr>
              <a:t>Tea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4427640" y="5013360"/>
            <a:ext cx="431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ff"/>
                </a:solidFill>
                <a:latin typeface="Arial"/>
                <a:ea typeface="Arial"/>
              </a:rPr>
              <a:t>Consistenc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Consisten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55640" y="1989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j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5640" y="2637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ulty planner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755640" y="335772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tnightly leadership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755640" y="40514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785880" y="47242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pil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Enjoy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55640" y="429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4360" y="213372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sure 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84360" y="2852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ck on the m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84360" y="357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000"/>
                </a:solidFill>
                <a:uFillTx/>
                <a:latin typeface="Arial"/>
              </a:rPr>
              <a:t>Speed 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Te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755640" y="1989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ctive schem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755640" y="2637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er observation schedule – within faculty and cross curr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Arial"/>
                <a:ea typeface="Arial"/>
              </a:rPr>
              <a:t>Achievement-track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271080" y="1699200"/>
            <a:ext cx="33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kbook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611280" y="31161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ar therm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611280" y="242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8:16:41Z</dcterms:created>
  <dc:creator>Gail Stevens</dc:creator>
  <dc:description/>
  <dc:language>en-US</dc:language>
  <cp:lastModifiedBy>stgstevens</cp:lastModifiedBy>
  <dcterms:modified xsi:type="dcterms:W3CDTF">2009-10-04T07:05:19Z</dcterms:modified>
  <cp:revision>41</cp:revision>
  <dc:subject/>
  <dc:title>Slide 1</dc:title>
</cp:coreProperties>
</file>